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12F-9321-43C6-83F8-D1A2A2AE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48D-6BFD-4B63-8FEC-21C5A9A5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E19-FD68-4CE3-B5FF-0D1835B9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AC4-BC83-43BC-A273-F5222E86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2C98-A674-48DA-A717-A93DE017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13F1-9671-437C-A7C2-EF2F908D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396F-08B7-4CC3-AFD0-CE8CB0D2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9D41-3132-44F1-A991-0B4A30BE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2FBC-4FEA-4DF0-AE74-BE5B1504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A795-7EEB-4F54-890C-6D8D2758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23B1-1797-4982-93A2-AB028DDE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6E4-5BC4-416B-B193-E5543652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E917-A6C9-447E-900E-0E0EAA01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FB6A-9AE5-49F0-8A7F-B9337703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C9F0-DDD0-403C-8B0F-ED49408E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3EB1-2B9E-4A21-BC90-AFB55C15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8A01-8A65-4C63-BD19-D63513CE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754-872E-480C-B54B-39F0A3AF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620A-712B-4D99-9799-441F917A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212-856C-42F2-8AD5-7AB47676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6F32-26C6-4937-AD37-591766BC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608-587D-4C1A-A028-FE4AF7A9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032-394B-407A-A72F-1EA50A26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6519-FA7E-42F1-B12B-1633AA89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104A-CF13-4316-BBAB-ACDDEEC2A5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5F7C-B34E-4F40-862D-04AD2A8C0D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Vowel Char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Short Vowel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Diphthong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5942880" y="1827000"/>
            <a:ext cx="14626080" cy="82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190512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038480" y="4495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34120" y="464832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114800" y="45720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464832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4114800" y="45720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7524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524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34120" y="464832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129564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1600" y="1676520"/>
            <a:ext cx="838080" cy="7617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2514600"/>
            <a:ext cx="8380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3352680"/>
            <a:ext cx="838080" cy="76212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191120"/>
            <a:ext cx="83844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5410080"/>
            <a:ext cx="838080" cy="7621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5029200"/>
            <a:ext cx="838440" cy="7621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19047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R’ Controlled Vowel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r, ir, ur (these three sound similar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4114800" y="45720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524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524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34120" y="464832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4114800" y="45720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7524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7524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464832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114800" y="45720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524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334120" y="464832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86200" y="3657600"/>
            <a:ext cx="838080" cy="76212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3809880"/>
            <a:ext cx="838440" cy="7621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038480" y="4876920"/>
            <a:ext cx="1676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162920" y="1828800"/>
            <a:ext cx="838080" cy="7621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3657600"/>
            <a:ext cx="838080" cy="762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2743200"/>
            <a:ext cx="838440" cy="7621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8779" t="45868" r="3127" b="0"/>
          <a:stretch/>
        </p:blipFill>
        <p:spPr>
          <a:xfrm>
            <a:off x="7315200" y="4114800"/>
            <a:ext cx="1600200" cy="990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914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0200" y="5943600"/>
            <a:ext cx="838080" cy="76212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5105520"/>
            <a:ext cx="838080" cy="76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4267080"/>
            <a:ext cx="838080" cy="7621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429000"/>
            <a:ext cx="83808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18779" t="45868" r="3127" b="0"/>
          <a:stretch/>
        </p:blipFill>
        <p:spPr>
          <a:xfrm>
            <a:off x="228600" y="51814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96080" y="3581280"/>
            <a:ext cx="83844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5257800"/>
            <a:ext cx="83844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5257800"/>
            <a:ext cx="83844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5257800"/>
            <a:ext cx="83844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4419720"/>
            <a:ext cx="83844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Long Vowels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001000" y="304920"/>
            <a:ext cx="609480" cy="761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90720" y="1066680"/>
            <a:ext cx="53316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1600200"/>
            <a:ext cx="5331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133720"/>
            <a:ext cx="533520" cy="4572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2666880"/>
            <a:ext cx="5335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20040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048120"/>
            <a:ext cx="5335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114800"/>
            <a:ext cx="533160" cy="457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581280"/>
            <a:ext cx="5331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236232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1676520"/>
            <a:ext cx="53316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4495680"/>
            <a:ext cx="53352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5715000"/>
            <a:ext cx="53352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5105520"/>
            <a:ext cx="5335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438280" y="1066680"/>
            <a:ext cx="1219320" cy="838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4648320" y="48769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rcRect l="18779" t="45868" r="3127" b="0"/>
          <a:stretch/>
        </p:blipFill>
        <p:spPr>
          <a:xfrm>
            <a:off x="7772400" y="335268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0" y="40384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304920" y="464832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rcRect l="18779" t="45868" r="3127" b="0"/>
          <a:stretch/>
        </p:blipFill>
        <p:spPr>
          <a:xfrm>
            <a:off x="0" y="5257800"/>
            <a:ext cx="762120" cy="609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48320" y="3962520"/>
            <a:ext cx="533160" cy="45720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464832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518148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77320" y="5715000"/>
            <a:ext cx="5331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6748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5715000"/>
            <a:ext cx="533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04:08Z</dcterms:created>
  <dc:creator>KKetchen</dc:creator>
  <dc:description/>
  <dc:language>en-US</dc:language>
  <cp:lastModifiedBy>KKetchen</cp:lastModifiedBy>
  <dcterms:modified xsi:type="dcterms:W3CDTF">2012-03-14T13:56:17Z</dcterms:modified>
  <cp:revision>18</cp:revision>
  <dc:subject/>
  <dc:title>Slide 1</dc:title>
</cp:coreProperties>
</file>